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04A59D-FA90-40C3-9AB5-55974C8EC73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F9D2763-E9CE-456A-AE8F-F25194C94D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6BE55C-38A8-47F3-89DE-FE8E0DE19244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4E441B-EBF3-4A92-B444-DD047357121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E862595-0F1B-4BE1-9E71-99C944DA02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9524F9-0743-4878-8011-FCB9CD1671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49FC8-8D51-4044-826B-EF7D626B918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D295EC-5890-436A-9B57-91445F3BE12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B6BCDB-ECDB-4B2C-BD36-866E57C8F06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C0271F-2426-4F27-B900-A031435E889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2D5AB3-7C90-4492-A7F7-9FB3C0F766C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62EA38-48C0-4AE5-927F-1B14699601C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fr-FR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60FE886-CF5E-41DB-A58C-CE6F7AC2596C}" type="slidenum">
              <a:rPr b="0" lang="fr-FR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4-01-23T17:50:02Z</dcterms:created>
  <dc:creator>Cécile</dc:creator>
  <dc:description/>
  <dc:language>en-US</dc:language>
  <cp:lastModifiedBy>hako</cp:lastModifiedBy>
  <dcterms:modified xsi:type="dcterms:W3CDTF">2014-04-24T15:50:47Z</dcterms:modified>
  <cp:revision>7</cp:revision>
  <dc:subject/>
  <dc:title>Diapositive 1</dc:title>
</cp:coreProperties>
</file>