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56375"/>
        <c:axId val="52762683"/>
      </c:barChart>
      <c:catAx>
        <c:axId val="31756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62683"/>
        <c:crosses val="autoZero"/>
        <c:auto val="1"/>
        <c:lblAlgn val="ctr"/>
        <c:lblOffset val="100"/>
        <c:noMultiLvlLbl val="0"/>
      </c:catAx>
      <c:valAx>
        <c:axId val="52762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56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0C7-0969-436F-A128-96AB6EC4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EC6-E4F3-4E2D-9075-8E04F28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FB8-F101-49E9-9014-C7B6AE0F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1ED-C78C-41D1-992F-4CAF963C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052-8442-456E-B31D-90307074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6EE-E338-44F8-8E39-61AFF613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86D-C82D-4765-A48D-27FD370A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4D6-5484-45B7-990D-78E64276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B3F-988E-441F-884E-BE1520F0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7FA-C427-4786-B3C4-907E820B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24A-44C9-4E0B-8C3D-3A57B05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8EC-1D0D-4AB9-B677-FE65405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78D2F-CB8F-45A7-90CE-72906866D5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