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91287"/>
        <c:axId val="76070066"/>
      </c:barChart>
      <c:catAx>
        <c:axId val="905912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70066"/>
        <c:crosses val="autoZero"/>
        <c:auto val="1"/>
        <c:lblAlgn val="ctr"/>
        <c:lblOffset val="100"/>
        <c:noMultiLvlLbl val="0"/>
      </c:catAx>
      <c:valAx>
        <c:axId val="76070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912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BB38-22E6-465F-AE47-EA378679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A9F-B863-44B9-95EF-E0ADE30D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E9D7-2440-45B1-9E6E-17A61AF8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007-0473-4197-9382-91BD3329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0EAA-31AF-4045-AE92-D77705E9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59C6-FCE6-4EEB-A4CD-AA4358BA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B1DE-3495-4582-B266-23916669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6EBF-47BA-4EF1-8EBC-09E991AC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BD7B-73DE-4BD8-BE85-BA03D2D5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2A7D-0D40-43C7-BC0C-FEF0F7C6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DB64-2677-48E6-9008-424BBBFF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26C8-64FE-40F1-9F80-41FFA91F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2F667-721F-4BE9-9149-32E198B154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