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29386"/>
        <c:axId val="80325506"/>
      </c:barChart>
      <c:catAx>
        <c:axId val="84529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25506"/>
        <c:crosses val="autoZero"/>
        <c:auto val="1"/>
        <c:lblAlgn val="ctr"/>
        <c:lblOffset val="100"/>
        <c:noMultiLvlLbl val="0"/>
      </c:catAx>
      <c:valAx>
        <c:axId val="80325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29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B39-9B77-45D2-B88A-6C37BAD4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D1E-92C9-402B-8D5A-53E2439C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AC6-EEF2-4A31-8D1A-5AEDA23A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0642-C11C-4FF7-80F6-30B7DAC7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0FE-8E94-484C-B567-B3E6F224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AB1-74ED-4D2E-80EC-91A5321D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46F6-3CB9-4938-9394-61AE443C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E33-16D4-49E1-9C00-438D0FEC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C12-B713-452B-BC5A-0576BCBD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0F8-D444-4C87-9C0E-8F9B7D30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235-F760-4842-AEC2-5F7B97C4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DA8-F87B-471C-8046-584721DD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62E0E-4466-4D34-B557-E89218B369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