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70153"/>
        <c:axId val="58359851"/>
      </c:barChart>
      <c:catAx>
        <c:axId val="55670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59851"/>
        <c:crosses val="autoZero"/>
        <c:auto val="1"/>
        <c:lblAlgn val="ctr"/>
        <c:lblOffset val="100"/>
        <c:noMultiLvlLbl val="0"/>
      </c:catAx>
      <c:valAx>
        <c:axId val="583598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70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954-8896-4931-BD8C-214C3262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AC4-4DB7-4D8C-885C-33A730CC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ADB-E0BB-4B2C-B3C9-68B7F1A6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5DDE-AEAB-4BF8-8098-22A47B9B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068-8F51-4963-9E20-155C99EA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6D6F-9396-4CC0-B5C3-FBE9877A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06D-3DDF-42EB-AD23-AD97EFE7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AEA-FDD8-4DBC-9D0F-26D1B911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8BD-94EB-4C04-952F-0A0F7493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662B-5EB5-4E23-8BC5-037FB92F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DB0-16B4-43BE-8EF7-75C3B217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AB45-DAA6-44A8-8E66-B4990921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E0FA6-D6A8-4A64-9223-8026BF9BCA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