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77541"/>
        <c:axId val="84265949"/>
      </c:barChart>
      <c:catAx>
        <c:axId val="96177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5949"/>
        <c:crosses val="autoZero"/>
        <c:auto val="1"/>
        <c:lblAlgn val="ctr"/>
        <c:lblOffset val="100"/>
        <c:noMultiLvlLbl val="0"/>
      </c:catAx>
      <c:valAx>
        <c:axId val="84265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77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31C-F67D-4D2C-8215-97C39124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9BB-4ADE-4882-BC61-203A4122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67D-A921-42BB-9059-27FFD6F1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FC3-0F2B-4F3E-B3F7-F2C65D1D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79E-2FE9-4F5A-866A-B9F488B8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5DF-3403-42C2-B9B9-11EA2B2B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197-DB5C-4FDD-82F7-E9E607D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D6F-3486-4BFC-83CE-DC7C4F40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F62-CD68-42A2-9E46-4B321117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95F-EBA5-4AC7-91C4-3A9EB2EE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E6A-77D7-479A-A246-ECBEECCA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46E-2299-4D4C-A2B2-D2210742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7774B-AA44-4D72-847F-DD749CB9EF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