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194665"/>
        <c:axId val="37294134"/>
      </c:barChart>
      <c:catAx>
        <c:axId val="241946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294134"/>
        <c:crosses val="autoZero"/>
        <c:auto val="1"/>
        <c:lblAlgn val="ctr"/>
        <c:lblOffset val="100"/>
        <c:noMultiLvlLbl val="0"/>
      </c:catAx>
      <c:valAx>
        <c:axId val="372941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1946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9647-925D-4D44-8CCB-052F3D3DA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54B4-F4CC-469F-8D38-6F57D593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8A9D-72DB-4E9B-8196-3ADD3DB57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EDAF-2D9D-4435-A511-4D2D18F3E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47AF-E758-4DDC-AA42-E8203870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1E60-B399-4054-8816-DD6AC180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65E4-B0D4-4963-8554-E3FA151E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84D5-BA99-49E0-B0EB-91179107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3DCC-09D3-40E5-AAE6-06EE7C5D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98E1-B27A-41DC-B782-C6F0F175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3CFC-7C6C-45C2-A936-611B6D21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DF3B-F993-4981-BC67-531FD855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4688AF-DFBE-4B6C-8DE7-E92E8E6E64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