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96302"/>
        <c:axId val="84553101"/>
      </c:barChart>
      <c:catAx>
        <c:axId val="32696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3101"/>
        <c:crosses val="autoZero"/>
        <c:auto val="1"/>
        <c:lblAlgn val="ctr"/>
        <c:lblOffset val="100"/>
        <c:noMultiLvlLbl val="0"/>
      </c:catAx>
      <c:valAx>
        <c:axId val="84553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96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57E-35EF-4501-9D74-F5F9939B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73A-AEBE-4A2E-8DEB-8CE9739B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64A-694B-4815-9E29-1624FACE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BAE-372A-43F6-94C0-EB7669BC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B29-37AD-4F87-B03E-C2DA036F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2A4-2E9F-4AF0-A241-0F94A453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964-1BDF-476E-B59A-7A7F2DCD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798-96A3-42F5-BD26-F440329A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AC9-EF96-4651-A2BD-6CC592A8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06F-012A-4BAF-8864-F3FB6E23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058-4774-4EF2-A29F-D76F66E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7FC-340F-4333-8803-1D642ABC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DDFB3-93AE-47F7-B067-B32DC3D53A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