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59995"/>
        <c:axId val="13587593"/>
      </c:barChart>
      <c:catAx>
        <c:axId val="67559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87593"/>
        <c:crosses val="autoZero"/>
        <c:auto val="1"/>
        <c:lblAlgn val="ctr"/>
        <c:lblOffset val="100"/>
        <c:noMultiLvlLbl val="0"/>
      </c:catAx>
      <c:valAx>
        <c:axId val="13587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9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8DA-EF1A-4542-A9FB-1886F533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6BF-E92C-472C-9DB5-645D3EA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768-083F-4883-8A3A-956FEF3B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73C-7882-4DDA-A128-961375DF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896-D018-49F9-BCA5-F29BA72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357-0872-4B87-88E6-507107AD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DCB-6268-4638-9207-87C5EA61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F50-0706-4AF5-83C1-DDBF9F5C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C08-D126-49E5-83D0-459A1570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E89-279B-47CF-BC74-76C29459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5DE-5856-4D9F-B68D-06CDF32E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E04-AD78-4D80-8A12-F569CD1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E55A-76E0-4B8E-A4A7-7218E47034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