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03358"/>
        <c:axId val="99047855"/>
      </c:barChart>
      <c:catAx>
        <c:axId val="34603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47855"/>
        <c:crosses val="autoZero"/>
        <c:auto val="1"/>
        <c:lblAlgn val="ctr"/>
        <c:lblOffset val="100"/>
        <c:noMultiLvlLbl val="0"/>
      </c:catAx>
      <c:valAx>
        <c:axId val="99047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03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E3F-B0D4-4AF2-8842-89EB6A10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478-3573-432A-8769-5A2FAB93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5F4-D7A4-475C-BEE6-C8A70E7D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F14-5922-40AB-A4C9-CFD920A4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4AA-BBD6-4E0C-BD5E-F4686A84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EA3-7E5F-48E1-85C5-A354EEA7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A66-288F-4C3B-8D7D-E14B3A36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830-0C49-4ABF-A89F-CDD2CE2F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D23-0F8F-46C1-A6C6-06902E1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6D1-5868-4A9E-B929-1AF95BDB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946-435B-4AAB-B6D5-6341631A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498-8DD9-4C7C-91C9-4DB9EF5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06272-CB08-49E4-9F29-05572A987E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