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67484"/>
        <c:axId val="3330938"/>
      </c:barChart>
      <c:catAx>
        <c:axId val="60467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0938"/>
        <c:crosses val="autoZero"/>
        <c:auto val="1"/>
        <c:lblAlgn val="ctr"/>
        <c:lblOffset val="100"/>
        <c:noMultiLvlLbl val="0"/>
      </c:catAx>
      <c:valAx>
        <c:axId val="3330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7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714-4AF7-4C28-89D6-8A210D14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F02-7387-4DE9-B0FD-BCB15DE3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850-F0DE-4D96-841B-BD0D72D4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338-F54D-4433-B722-78C3F787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8A3-1FEE-4C36-9C84-00065CF1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26E-BC85-4152-8A35-139FB48A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6AD-DEBA-4F8A-8853-81E6C77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564-426F-484F-A8CC-98E5E22A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4C0-8804-450E-83C3-D712DC19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BFC-651B-4B40-85A2-C8572FB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B65-5184-4492-9B2B-FA91391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9F1-E1AB-49D7-8828-2C78E7A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C38B-DEDF-4DC8-9DB1-DFA54CACE6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