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26441"/>
        <c:axId val="60772290"/>
      </c:barChart>
      <c:catAx>
        <c:axId val="18726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72290"/>
        <c:crosses val="autoZero"/>
        <c:auto val="1"/>
        <c:lblAlgn val="ctr"/>
        <c:lblOffset val="100"/>
        <c:noMultiLvlLbl val="0"/>
      </c:catAx>
      <c:valAx>
        <c:axId val="60772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26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18D-50B0-47E4-ABA7-0B3BB729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3C48-6881-4464-B574-131D6F6E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A8D-C1D0-4F14-83A3-5B89D755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2C3-019F-4ABD-B972-8A9D8E0D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CA3-235F-4FA8-9668-F336B28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AA4-0234-42BE-AF7F-3226921E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805-2BB8-4D50-8414-9EB34D5A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867-A714-4BB9-B66A-F366E63A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259-3DAD-4C12-AF7F-E9C8E562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273-8F2D-4884-A1B5-CB19E01D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BD9-4496-4FA7-BA21-D0E6887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D7E-68FC-45CA-ABF5-2E6DE572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043CE-BF5E-4EB7-BDBF-17428A8913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