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09427"/>
        <c:axId val="7188637"/>
      </c:barChart>
      <c:catAx>
        <c:axId val="40109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637"/>
        <c:crosses val="autoZero"/>
        <c:auto val="1"/>
        <c:lblAlgn val="ctr"/>
        <c:lblOffset val="100"/>
        <c:noMultiLvlLbl val="0"/>
      </c:catAx>
      <c:valAx>
        <c:axId val="7188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09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85C-E3D2-43EF-942F-E47911C2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74A-F100-494F-9446-4CF49479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9CB-A6DD-4FEC-BFA4-BF2A3056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700-FA3F-4879-A04E-016A9A80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394-145D-4215-9C3F-8D0614D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7BC-318E-44BD-A300-4A91EC0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14C-4F56-489A-A1D2-5BABDD68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C67-E481-469F-8D8C-8BD1DAF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6E7-92B9-4331-A30C-CFF990CA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A83-FA21-4C53-9952-4A67F559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A87-5673-4190-85EF-97AB414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34E-7D13-4A38-98DB-8874BAE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C9F9B-387A-4E75-889D-82A783A52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