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02451"/>
        <c:axId val="98871179"/>
      </c:barChart>
      <c:catAx>
        <c:axId val="45402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71179"/>
        <c:crosses val="autoZero"/>
        <c:auto val="1"/>
        <c:lblAlgn val="ctr"/>
        <c:lblOffset val="100"/>
        <c:noMultiLvlLbl val="0"/>
      </c:catAx>
      <c:valAx>
        <c:axId val="98871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02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274-E73A-4DBC-8ADE-6AC0B40A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E0A-0782-44E5-B8BD-ED92A510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98C-0F10-47F1-89CF-5CAAB826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DE6-2E5B-4D2C-A26B-ABC55088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FC1-7925-40DA-9458-0466BCB4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68E-9D7F-4154-8C2B-E558D08E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481-0534-4F43-BCDD-5E25E5F2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BA2-4736-45C8-A22E-953ABD29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6DF-E0A4-4FEF-BE46-EBFB878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638-40E1-4ED9-A21E-A497EC4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C82-0FDF-4F6B-B81F-AD2CC153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250-64B3-4F57-837A-34F04991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6FE6F-8B94-4007-BD7B-32BEDEEC7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