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6534"/>
        <c:axId val="71131502"/>
      </c:barChart>
      <c:catAx>
        <c:axId val="59165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31502"/>
        <c:crosses val="autoZero"/>
        <c:auto val="1"/>
        <c:lblAlgn val="ctr"/>
        <c:lblOffset val="100"/>
        <c:noMultiLvlLbl val="0"/>
      </c:catAx>
      <c:valAx>
        <c:axId val="71131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65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613E-B89C-4489-8E63-DC9CB5A4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444-B281-4593-AE77-80813C2F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E74-B6B0-42C2-9AD5-28CCD8E7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8E8-290A-4746-B988-EA903AB3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8CF7-FE22-4017-8011-3EFD46A9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B5A5-F7CE-4DEE-BF63-7D4E3D60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6F7A-A3D2-4E0C-924C-D4D5288B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6EAE-3EE7-4E63-8CB2-202146F6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467-2B10-4AA6-9220-E37BC767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80AE-3E49-4958-A691-954BF2C1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BC9B-D946-4E83-8024-160D0F55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E2D-96E0-46AF-A56A-6E7D0E91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B0273-4091-4207-BFE2-9A60243AB8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