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9689159"/>
        <c:axId val="97245641"/>
      </c:barChart>
      <c:catAx>
        <c:axId val="7968915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245641"/>
        <c:crosses val="autoZero"/>
        <c:auto val="1"/>
        <c:lblAlgn val="ctr"/>
        <c:lblOffset val="100"/>
        <c:noMultiLvlLbl val="0"/>
      </c:catAx>
      <c:valAx>
        <c:axId val="9724564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68915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C7A8F-AAFC-419B-8E88-6EC9123CA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CF755-DE7D-40DD-98AD-431AADDB9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2B9AD-CE82-49C7-9C7E-B43B57F97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EFFCC-6D2F-49BB-A9F8-85867D9EF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9E349-C69F-48D3-9A32-86B7F2D65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F6E41-9C52-46A9-B98E-F1B01E65A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CB3C8-869B-46AA-9F78-B042A5C3F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04853-3C43-443C-A04F-8B2F2D72B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58B84-402E-4158-B91D-21789072E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0D757-D3AF-4D6A-98BB-5A995CD56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2CAC6-D43B-4574-B59A-D7732F798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90605-9503-4C69-B2D1-603B4EF3A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393304-CC6D-423C-BCA8-09BA1A6F3B5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