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55072"/>
        <c:axId val="94062057"/>
      </c:barChart>
      <c:catAx>
        <c:axId val="69055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62057"/>
        <c:crosses val="autoZero"/>
        <c:auto val="1"/>
        <c:lblAlgn val="ctr"/>
        <c:lblOffset val="100"/>
        <c:noMultiLvlLbl val="0"/>
      </c:catAx>
      <c:valAx>
        <c:axId val="94062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55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2C0-D379-48DE-83A3-C1C15261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89E-5E4D-4736-B0D3-A1FA36A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E0F-6711-4F04-AC7D-F38CE6DC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60E-B257-4925-A244-D727F80B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F9D-2365-494F-B2D7-15C0F092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9DD-2B87-4F6E-A1EE-1F8B3787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F64-790B-44DE-97E9-3C167AF3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E62-0378-4BCB-B146-B2B8321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231-3811-4A4A-BEA6-0B3DDF6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2B4-2DC0-40BB-8A6E-C5591A9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8BF-A904-4C7E-B434-9F76D56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793-45B0-4528-9C06-3C6CCD6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6F0AC-C0BC-40C3-898F-2A8F909AE3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