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547679"/>
        <c:axId val="15738911"/>
      </c:barChart>
      <c:catAx>
        <c:axId val="495476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38911"/>
        <c:crosses val="autoZero"/>
        <c:auto val="1"/>
        <c:lblAlgn val="ctr"/>
        <c:lblOffset val="100"/>
        <c:noMultiLvlLbl val="0"/>
      </c:catAx>
      <c:valAx>
        <c:axId val="157389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476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B94A-674D-4E96-94F0-3E8CA39F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AD26-A647-46C1-B133-32182676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79F-6190-4DDB-BCDC-11DEE3A7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A01-51EF-402F-A202-9AF0F852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25F3-738C-4A2D-86E0-EB4EB43C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01EB-333C-486A-BCF7-45692F2A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F0C-03F6-4DD4-B28C-BEEF9C32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C49-F7B1-4D2B-97A4-34A337BB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716-B476-4A1A-9B18-DAC96546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D26C-1A71-4388-98EA-3B600043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5B6-6A32-49DE-A9E3-C684DC59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932-11CA-456D-9CCE-0FC48904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52FC0-263E-4F2F-B79E-CB200C69D2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