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17377"/>
        <c:axId val="81390749"/>
      </c:barChart>
      <c:catAx>
        <c:axId val="36417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90749"/>
        <c:crosses val="autoZero"/>
        <c:auto val="1"/>
        <c:lblAlgn val="ctr"/>
        <c:lblOffset val="100"/>
        <c:noMultiLvlLbl val="0"/>
      </c:catAx>
      <c:valAx>
        <c:axId val="81390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17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92E-772C-4E87-983A-209FE0A4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052-0522-4CFA-9EE3-C81EE81B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6F2-BD06-4FC7-B11A-D35FE6DD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18D-E352-418E-A90D-177B9FDF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630-25BB-43A9-B7FD-EB6FCD2D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47B-085F-46B1-8369-B66BA69C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3C2-CBC8-4334-AD0F-911946D7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57E-5126-4070-B1A3-52CFD4C8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F89-B3DC-407E-BEED-13B1F157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311-E51A-4703-B34D-0122D32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DFE-B845-4D3C-AF1C-D014B90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8CD-60B9-4D82-B3A6-F6A86A9D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A9CB5-F8DE-48DB-995E-4EC333173E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