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67861"/>
        <c:axId val="27539774"/>
      </c:barChart>
      <c:catAx>
        <c:axId val="20767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39774"/>
        <c:crosses val="autoZero"/>
        <c:auto val="1"/>
        <c:lblAlgn val="ctr"/>
        <c:lblOffset val="100"/>
        <c:noMultiLvlLbl val="0"/>
      </c:catAx>
      <c:valAx>
        <c:axId val="27539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67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447-EC27-4BEE-B5B0-469EB815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0CB-0D9F-4FB7-8009-63EE647F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D10-73BD-4D22-B567-DDACFA85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11D-85A9-4823-BA22-C6EFC211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7AE-0C14-4B60-8A7E-B43D7467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0FC-7C25-4F9D-B6B5-D1B24956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9FF-8FA8-404D-978B-8030F272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425-41C0-465D-8265-A8C22321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3B8-0091-40F9-A1A5-D84A4931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032-4FA9-401C-AB05-CE1CA32E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D75-5420-4D02-AC67-9126ECE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259-2456-4B04-9823-D1321A50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563E6-0C9A-478E-8FA8-C265B210D3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