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94798"/>
        <c:axId val="40090656"/>
      </c:barChart>
      <c:catAx>
        <c:axId val="55994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90656"/>
        <c:crosses val="autoZero"/>
        <c:auto val="1"/>
        <c:lblAlgn val="ctr"/>
        <c:lblOffset val="100"/>
        <c:noMultiLvlLbl val="0"/>
      </c:catAx>
      <c:valAx>
        <c:axId val="40090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4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AE1-ED9A-490A-87CC-5AB6684B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8B7-5364-440C-B729-AAEF0197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19B-F7D6-4564-B877-2CCD8C49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716-84F4-4121-9322-BF03E72A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383-EAA1-492F-AB60-A79AB36E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D7D-A75C-4869-9637-4178671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AB5-076D-4F6F-A6D3-ED579776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631-0803-4C7C-AA1B-30A2E38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761-65DC-4A4A-B24A-09A80251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010-14EB-4F10-819A-9F9A59E6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DC3-7FD5-4B1E-8EE2-B3AF6D5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43C-F976-4E28-B294-C6A42F2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58A4-C27A-4749-8298-05CAF72BCA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