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818"/>
        <c:axId val="21046450"/>
      </c:barChart>
      <c:catAx>
        <c:axId val="7770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46450"/>
        <c:crosses val="autoZero"/>
        <c:auto val="1"/>
        <c:lblAlgn val="ctr"/>
        <c:lblOffset val="100"/>
        <c:noMultiLvlLbl val="0"/>
      </c:catAx>
      <c:valAx>
        <c:axId val="21046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47C-B85F-4CDC-BDE5-FB85F3A6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B60-95A9-4B7A-88F1-B59AAF8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6ED-72D7-4EC6-BD01-43B73FE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F70-8444-4CF2-96EC-3AF5E091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65D-7FAE-4D29-94D6-EA278AB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8DA-0B53-4BFE-9D38-45F6814A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AB7-FD54-430F-A73E-2AF9A6A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6A8-D869-41E8-96F1-94F369E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467-77C5-4D7E-964B-F5F7222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F2E-3D98-4EA1-B527-63B98DB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417-B12C-410D-9134-65326A7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61A-5AB3-41E0-ADCB-3F2A297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061D-2665-4E14-8984-71F3C77956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