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038490"/>
        <c:axId val="66972107"/>
      </c:barChart>
      <c:catAx>
        <c:axId val="440384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972107"/>
        <c:crosses val="autoZero"/>
        <c:auto val="1"/>
        <c:lblAlgn val="ctr"/>
        <c:lblOffset val="100"/>
        <c:noMultiLvlLbl val="0"/>
      </c:catAx>
      <c:valAx>
        <c:axId val="669721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0384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8753-1B86-4EB3-A883-AE8750FA9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3E38-30F9-4B2A-A012-2EA9E28B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ED99-0806-4658-8ABD-DCADE1E5F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7BF9-9C1E-4207-8677-C382DC756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AB81-1BDE-455C-8C5C-A64C7823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1565-3BB5-4263-BD0F-12B1B0B2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49F1-989E-4B9B-A621-E279757C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99A3-D1EC-4F71-BEB4-240DE7E3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ADF6-BEA9-4FE1-A26C-5F207781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4703-4DD9-41E0-A4CD-FE7A33F6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AA9F-FD89-48CC-B531-60190EF7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1BAC-8460-405F-BAB4-CB461170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63063-D810-48D5-8C18-D48E270F08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