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3733"/>
        <c:axId val="82718574"/>
      </c:barChart>
      <c:catAx>
        <c:axId val="4333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18574"/>
        <c:crosses val="autoZero"/>
        <c:auto val="1"/>
        <c:lblAlgn val="ctr"/>
        <c:lblOffset val="100"/>
        <c:noMultiLvlLbl val="0"/>
      </c:catAx>
      <c:valAx>
        <c:axId val="82718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3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EEA-B66B-4A3E-951E-FC9C16D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7BC-6FBA-4232-A126-61AA6F5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C4C-16F2-467D-84D6-88716ADB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1FA-8541-4D24-BCD5-8AA1444F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F4C-8FBE-4337-9C32-08CA358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E49-B0CF-4D6C-9228-A59B54B3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0AB-3200-4E96-97D7-9DB4FFC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5EB-2819-4F3F-A894-30CC9D5F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1DC-9344-498A-A6A2-87EA660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561-BCA1-41B4-8496-D583D11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7D0-24E4-4E9B-A0C6-38B1771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939-A0E7-481A-8B3B-3BB2CF7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BD06B-FA74-40CC-8E4A-8D8FD9D26F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