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41710"/>
        <c:axId val="6442825"/>
      </c:barChart>
      <c:catAx>
        <c:axId val="82041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825"/>
        <c:crosses val="autoZero"/>
        <c:auto val="1"/>
        <c:lblAlgn val="ctr"/>
        <c:lblOffset val="100"/>
        <c:noMultiLvlLbl val="0"/>
      </c:catAx>
      <c:valAx>
        <c:axId val="6442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1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CBC-F5C3-4C60-842C-0BC7209D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FC0-F5CD-41AF-AB33-723BB1A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CA4-E86C-47DD-BDFB-5D5CFF8D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5FA-DD6B-4AB9-B347-C7061B7D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673-A18D-4FE0-A642-853EEFDB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3DA-E7C1-4FEF-8B67-D838E7DD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A87-2B29-4C74-8782-A68E1262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093-AC74-4057-837C-1410C05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221-8BEE-488D-91C4-6E22AE5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F63-DB6C-4162-AC48-3B606FE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95B-BD6F-4F41-A59C-EF4120B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94F-744F-4D88-9671-99D8FDE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D334C-640D-4373-8011-48614D968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