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490288"/>
        <c:axId val="55108371"/>
      </c:barChart>
      <c:catAx>
        <c:axId val="644902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08371"/>
        <c:crosses val="autoZero"/>
        <c:auto val="1"/>
        <c:lblAlgn val="ctr"/>
        <c:lblOffset val="100"/>
        <c:noMultiLvlLbl val="0"/>
      </c:catAx>
      <c:valAx>
        <c:axId val="551083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902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78DB-E6ED-4147-AECF-9DA4244D3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DA54-7861-43B5-8861-4F53BE78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DB9C-9AA9-48E4-A030-3299D2964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8035-EE36-430E-AAA9-7F550AA9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6F78-E24F-416C-A513-041B414D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7740-17FA-4886-B7E1-0C5D6019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39F4-2376-4CB6-BE8E-A93A5385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5127-101A-43FB-A525-285D8B10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DED5-636D-45DE-A273-EC5FFF2F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18EA-5566-403F-99FF-8900ABFA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76E0-33BE-44A5-A752-BE3E6A8F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7630-7807-44B5-80F3-F4BAD74D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1F88E-F394-4B5E-BB8C-859E7CA7B3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