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41635"/>
        <c:axId val="88799340"/>
      </c:barChart>
      <c:catAx>
        <c:axId val="90241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99340"/>
        <c:crosses val="autoZero"/>
        <c:auto val="1"/>
        <c:lblAlgn val="ctr"/>
        <c:lblOffset val="100"/>
        <c:noMultiLvlLbl val="0"/>
      </c:catAx>
      <c:valAx>
        <c:axId val="88799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1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4B4-3A21-439B-B304-1D40317A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A1C-4A4B-4A2B-9F0B-3E4C3379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ED9-ABFB-499E-8238-1E5075BF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E8F-7CBF-47D5-994C-06B7ED46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478-7462-44A2-936A-95F0CFB0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FEC-2D78-4826-92B2-03CBAA68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273-8EDC-4E18-B851-563922DE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E4F-93E1-409C-8ACA-C4850CCB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D1B-4307-41DE-91E0-A7A59E24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C43-EDDE-4BA5-BDBA-ECD58EC3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E2F-0C9F-41DF-BF96-D7475DF4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55E-DB35-4E49-8D18-B2AC9608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F6EB1-5AEF-46FC-BDAB-7CFFACD13E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