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50788"/>
        <c:axId val="65665606"/>
      </c:barChart>
      <c:catAx>
        <c:axId val="90650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65606"/>
        <c:crosses val="autoZero"/>
        <c:auto val="1"/>
        <c:lblAlgn val="ctr"/>
        <c:lblOffset val="100"/>
        <c:noMultiLvlLbl val="0"/>
      </c:catAx>
      <c:valAx>
        <c:axId val="65665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50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7BA-D0BF-4D86-AF44-AB637C6B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4E5-A27A-42D0-9190-708F2815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970-36F0-42A7-904E-4006190F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25F-328A-49E6-B165-4D3670F6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04B-19B4-420E-95F3-993F17D8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5D1-5948-423C-B863-87C95F20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856-0D18-49EA-95CF-308721F2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87C-38EC-4427-869E-146E89A6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107-0112-4A92-B1B2-FEDD990F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9CD-9ACC-4B53-94C7-83B7C501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93A-BECC-4602-B01D-63779D28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9A3-1982-46ED-9587-241D1B5D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8C60C-38C3-424A-A65C-980CCDF917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