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61846"/>
        <c:axId val="79530330"/>
      </c:barChart>
      <c:catAx>
        <c:axId val="29061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30330"/>
        <c:crosses val="autoZero"/>
        <c:auto val="1"/>
        <c:lblAlgn val="ctr"/>
        <c:lblOffset val="100"/>
        <c:noMultiLvlLbl val="0"/>
      </c:catAx>
      <c:valAx>
        <c:axId val="79530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61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2B0E-107E-41A0-8D59-A4CB329D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FF4-6824-4230-AB72-5DCD4CF8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6F9-D902-4289-8922-FC6790DC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65E-0275-4DBF-B9E8-A76C53E9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4C1-B91B-4495-9E71-21BAF65C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2D8-E8C1-4924-B0F6-2056FF0F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8BF-4E5F-4C39-886D-0C24216A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5BE-F786-436D-A5C2-C8585A00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F5F-C57B-4656-96E7-7FDE7C2C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8A2-1422-48D0-A7EE-8ADDCEF9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E63-C6C9-4355-92E5-B595476D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CBA-67F3-4AD4-9FFC-E2D038AE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57AF8-4323-4CDF-BDFA-DCABD60AC9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