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64845"/>
        <c:axId val="21151819"/>
      </c:barChart>
      <c:catAx>
        <c:axId val="43664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1819"/>
        <c:crosses val="autoZero"/>
        <c:auto val="1"/>
        <c:lblAlgn val="ctr"/>
        <c:lblOffset val="100"/>
        <c:noMultiLvlLbl val="0"/>
      </c:catAx>
      <c:valAx>
        <c:axId val="21151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64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AD1-FC95-4C8D-A204-A35F30A8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6D8-159D-49B2-95BE-52947AC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C89-A4AF-43C0-9800-7D5DF3F0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4C5-E613-4191-9AEA-7A25E0B5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814-275A-4D74-BDCE-3D6106C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98A-9689-4B96-838A-AB47A20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475-77C4-4898-AF39-B3C7ED6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150-C652-4786-9B9A-C4DBD81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C8A-D716-4B7B-8D05-4770E19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F9E-D2F9-49E4-B3B0-90ED348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A9A-BC07-4BD8-A541-DC0EB87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F25-F1F8-4B28-8E45-61F6C87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E1965-973F-4A90-844D-C76C990976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