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66333"/>
        <c:axId val="52532307"/>
      </c:barChart>
      <c:catAx>
        <c:axId val="78466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32307"/>
        <c:crosses val="autoZero"/>
        <c:auto val="1"/>
        <c:lblAlgn val="ctr"/>
        <c:lblOffset val="100"/>
        <c:noMultiLvlLbl val="0"/>
      </c:catAx>
      <c:valAx>
        <c:axId val="52532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66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131-2C4A-4A7E-B5C9-D62871CB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578-BD0F-43DD-9A18-4BCC0100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D47-C9CD-43A6-9EF6-B9590C96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4F0-E510-46BE-B947-54B21D81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69B-BAEA-4060-93D1-D7D78EA6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204-BFB2-4314-8F2F-8503AA2B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A78-90F4-4522-B4CF-6CF06247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117-942C-462D-BCE3-C96C171B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9DF-6F05-4060-AA79-0794078E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83B-69BD-4305-9C00-9FEE8B4F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7FD-0E58-4061-B1F8-B9401ED5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0AC-B354-4B7C-ABED-C2C3F0BB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74C3D-9B62-44D8-9470-FD6CB7DD81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