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418955"/>
        <c:axId val="34766557"/>
      </c:barChart>
      <c:catAx>
        <c:axId val="234189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766557"/>
        <c:crosses val="autoZero"/>
        <c:auto val="1"/>
        <c:lblAlgn val="ctr"/>
        <c:lblOffset val="100"/>
        <c:noMultiLvlLbl val="0"/>
      </c:catAx>
      <c:valAx>
        <c:axId val="347665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4189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352E-BC4D-4607-A094-C8BDF1ABB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9692-56D1-4306-BBBE-E51230373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966F-CA63-473A-9C12-2D1C61371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EACC-071E-42AF-B0AC-E1F62241B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9AA4-03CF-4770-95AB-1D19A3672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BBE2-E9C9-46D7-8860-F58CAA5D6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771D-176D-4CB7-A80D-D4DE0FF60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AFC9-FEB5-4D7A-92AB-7509B0756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8312-FBE1-49F0-B1B4-D5F815D04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52A6-7879-488C-B640-39272325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420B-AC41-47CD-BF63-9D2E220C5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AF75-0B6E-4CD6-B75D-3B1910F1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EAF6BA-C2F2-47F5-B437-CE48C76CBE6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