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28684"/>
        <c:axId val="82672481"/>
      </c:barChart>
      <c:catAx>
        <c:axId val="26528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72481"/>
        <c:crosses val="autoZero"/>
        <c:auto val="1"/>
        <c:lblAlgn val="ctr"/>
        <c:lblOffset val="100"/>
        <c:noMultiLvlLbl val="0"/>
      </c:catAx>
      <c:valAx>
        <c:axId val="82672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28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853E-A37A-465D-BE27-EACFDB30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49D-2A34-4F91-97FA-2005DEFD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B34B-822E-41F6-9CFF-6C27FEA7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586-8AD0-497A-A6C8-3B53DDFB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30A-8E61-44FA-8EEF-981C41C5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608E-D2BA-4C41-BF74-F85AA729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1DEA-C594-4B34-BD72-0F351123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F48-CF9F-4278-B6EF-A1771C2B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B16C-A381-43D5-9785-ECBF1BD6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97E-7BF1-4F06-8CE0-F08AABAF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783-E552-4C82-B841-35FF35D2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02EA-E3AE-4F4E-9177-9BE62565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DFA60-40B8-422A-94AD-0F58059BBF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