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833762"/>
        <c:axId val="16495897"/>
      </c:barChart>
      <c:catAx>
        <c:axId val="688337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95897"/>
        <c:crosses val="autoZero"/>
        <c:auto val="1"/>
        <c:lblAlgn val="ctr"/>
        <c:lblOffset val="100"/>
        <c:noMultiLvlLbl val="0"/>
      </c:catAx>
      <c:valAx>
        <c:axId val="164958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337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38B7-02EF-4E45-AA80-FC61EA3E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63F5-519B-452D-9348-26D06573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CF00-07C1-431F-AE1F-01802DC5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807-E883-4B6C-A695-AF310915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4DE8-BE98-4D89-B003-03156676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DB54-9C7F-4AC1-9059-A13CCD0D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6A07-0183-4D14-B3C2-9F876100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795F-A215-4FD9-AAA8-93BBFDD8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7993-E0A2-4DAE-A89E-1AB332CC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475C-AD6B-439A-BC3D-8A425DB8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70BE-8DD9-43AA-8AFD-F1B7EE55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7BD2-2B13-4055-9682-7BE9B9F0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BF87A-CBE5-4BC5-9AD5-C478C715D9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