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77991"/>
        <c:axId val="91936765"/>
      </c:barChart>
      <c:catAx>
        <c:axId val="19277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36765"/>
        <c:crosses val="autoZero"/>
        <c:auto val="1"/>
        <c:lblAlgn val="ctr"/>
        <c:lblOffset val="100"/>
        <c:noMultiLvlLbl val="0"/>
      </c:catAx>
      <c:valAx>
        <c:axId val="91936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77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E90-BF2A-4AFF-B032-EED9E062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467-8740-4082-B80B-C986E1BF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E9AF-A5C6-4585-9619-31E72BDC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8F8D-25D3-4B30-848B-52EFE3F2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D20E-0A8E-46DA-91F3-BD665EB9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63E-72C9-4474-99B5-3ADC9D9C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AE0-5770-408A-A52F-BD0CA216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E1A-BDB7-44F9-8158-3FBB7682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410-A1B5-4C78-AA77-12114BC9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B7E-6DC7-4352-8925-FEDCEF75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7BA-7B4D-4CA8-8994-F47ABE2D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8F4-6CE4-4B7D-B47F-0B3343DC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723A5-1A9B-4E27-9643-EC98F7B1DD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