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85741"/>
        <c:axId val="11038815"/>
      </c:barChart>
      <c:catAx>
        <c:axId val="82185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8815"/>
        <c:crosses val="autoZero"/>
        <c:auto val="1"/>
        <c:lblAlgn val="ctr"/>
        <c:lblOffset val="100"/>
        <c:noMultiLvlLbl val="0"/>
      </c:catAx>
      <c:valAx>
        <c:axId val="11038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5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1D8-EEA4-4E1A-B266-787E20E0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1A4-1500-4A59-BF8F-349BA374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966-A1FD-4BEC-B37C-CF4DB62A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C1B-10D4-4A8F-BBDE-BD37F740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EC6-9F64-4086-99E1-2F4DC56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C50-A3C4-49C4-A055-4F28D3D0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93C-CC01-47B5-9E35-411E99D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030-B614-4D92-82E5-48EBB046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9A6-ED18-4665-A92C-A3AAF61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F51-EDFD-4B61-91E3-FD30A6D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9FE-ED0E-418A-A7B6-1539806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409-D522-4F35-9A48-1F32904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72F9F-25F1-4DD8-A6E3-E7CB7A0147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