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45685"/>
        <c:axId val="39111887"/>
      </c:barChart>
      <c:catAx>
        <c:axId val="20645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11887"/>
        <c:crosses val="autoZero"/>
        <c:auto val="1"/>
        <c:lblAlgn val="ctr"/>
        <c:lblOffset val="100"/>
        <c:noMultiLvlLbl val="0"/>
      </c:catAx>
      <c:valAx>
        <c:axId val="39111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45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2B3-02B3-4E0B-8E39-CE4F9C99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D5C-8828-467A-A899-B42663C4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687-815D-4501-A3CD-F68CAD27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C6D-A5BF-462A-A242-D63C4C8E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D95-20C0-42A5-AA2D-AC40471C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4AD-F89E-46E9-B41D-447CB389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575-4DC8-4484-B841-0B7BC800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B72-245B-4727-A0A1-BBC1DC1B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070-AD0C-4D47-AFCC-B2B2CB0D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5CE-EF6C-4968-BFAC-356379AD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C83-292B-48BC-8598-C99C2BAC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681-78E7-4465-9B84-8C2BACE7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8DAF5-C02B-4F63-88BD-91C919463E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