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511521"/>
        <c:axId val="71910068"/>
      </c:barChart>
      <c:catAx>
        <c:axId val="425115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910068"/>
        <c:crosses val="autoZero"/>
        <c:auto val="1"/>
        <c:lblAlgn val="ctr"/>
        <c:lblOffset val="100"/>
        <c:noMultiLvlLbl val="0"/>
      </c:catAx>
      <c:valAx>
        <c:axId val="719100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115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39DA-460C-4E75-B716-D6F11490A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FF20-13B9-4C91-B984-64346DEF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4030-AE78-4842-BF94-69F196A14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A052-7A27-43E4-BDA3-4729DD772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10FC-D342-4D8B-94C6-9097670E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E44C-B34F-4712-B0D0-91723BC0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144D-D48E-4AB8-9186-5CF4981D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AB7C-046F-42D0-9DE6-EC4A68D9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7F6B-6AF6-41C0-BC0B-309CE75F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3B18-D103-4372-91DE-10748281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86EC-476C-428E-9308-FE44594D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3FE7-3DDC-48D3-8538-ACDD8795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CB82E-D7A5-4AE2-A69C-1074D0F00A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