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60715"/>
        <c:axId val="53610493"/>
      </c:barChart>
      <c:catAx>
        <c:axId val="62060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10493"/>
        <c:crosses val="autoZero"/>
        <c:auto val="1"/>
        <c:lblAlgn val="ctr"/>
        <c:lblOffset val="100"/>
        <c:noMultiLvlLbl val="0"/>
      </c:catAx>
      <c:valAx>
        <c:axId val="53610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60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231-6394-4EFE-8477-467B0FF6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148-6D5B-4214-B09B-D130BF5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1FD-1204-43E8-A272-12524ADF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4D6-FF5E-4272-AA04-6D9E7A8E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2BD-F0C4-41B3-B69B-2F99E251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870-A3C0-4DAC-B220-C5394F92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50A-99EA-4C27-8E6E-CA4923FE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BFD-A8C1-44A1-ADD6-3F0F3AA8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1FA-CE9E-4C9D-979B-B738817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BAE-1436-4AE6-8277-88C7EE74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363-B2D4-45E9-9731-967D047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5D6-0529-44D3-A4E9-5B9A6BB7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4086-8C5E-4B09-A832-BF6A5B2A88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