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0150"/>
        <c:axId val="45340918"/>
      </c:barChart>
      <c:catAx>
        <c:axId val="22301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40918"/>
        <c:crosses val="autoZero"/>
        <c:auto val="1"/>
        <c:lblAlgn val="ctr"/>
        <c:lblOffset val="100"/>
        <c:noMultiLvlLbl val="0"/>
      </c:catAx>
      <c:valAx>
        <c:axId val="453409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01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3208-CCB9-49BE-94FC-219D34B5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F8F-0AE8-4D45-A8E4-2B1020F0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1EBB-B3F7-4F3D-B724-179F184D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FEF-D69C-43D0-9AD2-BB10DE64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251-30ED-44CC-ABB2-D8F1032F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FD5-AA6A-4639-B1C3-06CB34D4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ADC-E6AB-4534-9DBD-4FD35497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C8A-C919-41D6-99F3-AB746E09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9D6-60D9-4238-8E83-58DA9D5C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6CA-3CA2-49F3-A173-3F3FD692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D9E-72DD-4E3B-9A74-64B3EE2B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6E3-4D80-4386-900E-CAE96EA3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23118-09FB-42E3-903D-F3D2CD067E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