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90252"/>
        <c:axId val="62701972"/>
      </c:barChart>
      <c:catAx>
        <c:axId val="437902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01972"/>
        <c:crosses val="autoZero"/>
        <c:auto val="1"/>
        <c:lblAlgn val="ctr"/>
        <c:lblOffset val="100"/>
        <c:noMultiLvlLbl val="0"/>
      </c:catAx>
      <c:valAx>
        <c:axId val="627019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902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3E4-752E-41C4-BDDA-57D1F174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D63F-32FA-4953-8143-91325769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08FE-30F0-46A8-A09D-99F78E7F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D42-9319-420E-8B18-B3D70BD1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D9EA-3F1C-4E47-8CF5-DF8B1774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828A-C3B6-468E-8BA2-D967411C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FCC0-7ED5-4CFF-A2C9-461A2E62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535A-6BDC-44A8-8302-3FF0E1A4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0146-3517-4A53-85EB-AAEC35A2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BEBB-41F8-425C-9274-F631F3D2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DE7-BF28-438D-AA27-5CF53FDD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CAE7-B4D8-4656-A34E-5FC4EA52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3D29D-52B2-4BDF-87DE-B5657C88C5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