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69199"/>
        <c:axId val="42334376"/>
      </c:barChart>
      <c:catAx>
        <c:axId val="997691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34376"/>
        <c:crosses val="autoZero"/>
        <c:auto val="1"/>
        <c:lblAlgn val="ctr"/>
        <c:lblOffset val="100"/>
        <c:noMultiLvlLbl val="0"/>
      </c:catAx>
      <c:valAx>
        <c:axId val="42334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691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5D41-2FD9-4DDA-908A-8F88A310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BB49-3DD4-4465-B77E-E6808BA0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68A-7572-48F2-B7C0-9616EDD7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561-E610-4E5C-83D4-DCD91F05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B0B-29BC-4791-BB1E-00750A24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6DC5-80A8-4B2B-B301-8587A012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DAC8-82AD-4141-852E-5414097A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F86E-F2D3-4F9D-B525-12D26400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82D-A313-4167-A902-C6F40A7E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F232-C690-4555-B979-82C40054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5D1-1579-48A4-AF1F-358014D3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4FFD-F696-499A-BCD6-E6430C4D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2CF00-8FB2-4130-906F-93F36D1955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