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71947"/>
        <c:axId val="49417327"/>
      </c:barChart>
      <c:catAx>
        <c:axId val="62271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17327"/>
        <c:crosses val="autoZero"/>
        <c:auto val="1"/>
        <c:lblAlgn val="ctr"/>
        <c:lblOffset val="100"/>
        <c:noMultiLvlLbl val="0"/>
      </c:catAx>
      <c:valAx>
        <c:axId val="49417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71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04D-748C-4CDB-AB81-F20C4371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F0B-FBFB-4FDC-83BE-92543EB1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08A-3906-4F25-B199-914BB5B2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FDF-563B-4D40-B14C-18C40992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182-7F38-422C-BFF5-A3D49A9C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6264-2381-4777-ACA3-D1306BEE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1E3-120D-4FF8-BE7C-05E9D7E1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C9FD-39AD-43DF-863E-880A8584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7B50-7CD0-4238-A6B2-E516C0DC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6EE-EE8A-45DB-9D62-21CDF918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EF7-AB48-4B88-81B9-9747D483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B6E-0E6E-4209-8773-B1833BF8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3611B-CDB6-4347-A474-ACBD91C894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